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BEC-05F2-458C-805A-5D56E26B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2D4-1371-4E8A-9645-D985608D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E3C-9045-4833-A0D5-4A9736D8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9DF-ED5C-4C2D-A2B6-003B252A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A34-4E15-4C5E-9242-901EE45A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A38-C782-4473-B150-E755F3A2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A42-7F64-4DBC-A993-670BFD26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459C-0244-41AA-8119-AC771362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C9FA-CF2D-4C64-AD70-9A0921CA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0F6-9262-48A3-BC7B-526C0181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1F8-6953-42A9-96BD-345E217D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77F-F469-4A39-8C3F-6DD03A15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8860-B5C6-43ED-B925-16D037EB7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Systems in the Class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2285640"/>
            <a:ext cx="64767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tney De 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a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Absh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5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Tube tour of site makes it easy to use for hearing impaired, sight impaired, or other disabled us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94440" cy="4525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038480" y="6172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SI, n.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for Parent and Stud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130960" cy="5170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62520" y="655308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SI, n.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ainif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(n.d.). Retrieved from http://www.brainify.com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ainify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.d.). Retrieved from http://www.brainify.com/about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well, B. (2009). Newtonian Physics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 4 Force and Mo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Retrieved from http://www.lightandmatter.com/html_books/1np/ch04/ch04.html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gient LLC, (2010). Educational Networking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st of Networks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d from http://www.educationalnetworking.com/List+of+Networks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SI. (n.d.). Retrieved from http://www.eSpecialmatch.com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ainif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(n.d.). Retrieved from http://www.brainify.com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ainify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.d.). Retrieved from http://www.brainify.com/about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well, B. (2009). Newtonian Physics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 4 Force and Mo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Retrieved from http://www.lightandmatter.com/html_books/1np/ch04/ch04.html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gient LLC, (2010). Educational Networking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st of Networks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d from http://www.educationalnetworking.com/List+of+Networks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SI. (n.d.). Retrieved from http://www.eSpecialmatch.com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Learners in th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33520" y="1600200"/>
            <a:ext cx="8000280" cy="4570920"/>
            <a:chOff x="533520" y="1600200"/>
            <a:chExt cx="8000280" cy="4570920"/>
          </a:xfrm>
        </p:grpSpPr>
        <p:cxnSp>
          <p:nvCxnSpPr>
            <p:cNvPr id="47" name="_s3092"/>
            <p:cNvCxnSpPr>
              <a:stCxn id="48" idx="0"/>
              <a:endCxn id="49" idx="2"/>
            </p:cNvCxnSpPr>
            <p:nvPr/>
          </p:nvCxnSpPr>
          <p:spPr>
            <a:xfrm flipV="1">
              <a:off x="7333920" y="4456440"/>
              <a:ext cx="2880" cy="572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090"/>
            <p:cNvCxnSpPr>
              <a:stCxn id="51" idx="0"/>
              <a:endCxn id="52" idx="2"/>
            </p:cNvCxnSpPr>
            <p:nvPr/>
          </p:nvCxnSpPr>
          <p:spPr>
            <a:xfrm flipV="1">
              <a:off x="4533840" y="4456440"/>
              <a:ext cx="2880" cy="572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088"/>
            <p:cNvCxnSpPr>
              <a:stCxn id="54" idx="0"/>
              <a:endCxn id="55" idx="2"/>
            </p:cNvCxnSpPr>
            <p:nvPr/>
          </p:nvCxnSpPr>
          <p:spPr>
            <a:xfrm flipV="1">
              <a:off x="1733400" y="4456440"/>
              <a:ext cx="2880" cy="572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086"/>
            <p:cNvCxnSpPr>
              <a:stCxn id="49" idx="0"/>
              <a:endCxn id="57" idx="2"/>
            </p:cNvCxnSpPr>
            <p:nvPr/>
          </p:nvCxnSpPr>
          <p:spPr>
            <a:xfrm flipV="1" rot="16200000">
              <a:off x="5647680" y="1627560"/>
              <a:ext cx="572040" cy="2800800"/>
            </a:xfrm>
            <a:prstGeom prst="bentConnector3">
              <a:avLst>
                <a:gd name="adj1" fmla="val 248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3085"/>
            <p:cNvCxnSpPr>
              <a:stCxn id="52" idx="0"/>
              <a:endCxn id="57" idx="2"/>
            </p:cNvCxnSpPr>
            <p:nvPr/>
          </p:nvCxnSpPr>
          <p:spPr>
            <a:xfrm flipV="1">
              <a:off x="4533840" y="2742120"/>
              <a:ext cx="2880" cy="572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084"/>
            <p:cNvCxnSpPr>
              <a:stCxn id="55" idx="0"/>
              <a:endCxn id="57" idx="2"/>
            </p:cNvCxnSpPr>
            <p:nvPr/>
          </p:nvCxnSpPr>
          <p:spPr>
            <a:xfrm flipH="1" flipV="1" rot="5400000">
              <a:off x="2847600" y="1627920"/>
              <a:ext cx="572040" cy="2800800"/>
            </a:xfrm>
            <a:prstGeom prst="bentConnector3">
              <a:avLst>
                <a:gd name="adj1" fmla="val 248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3080"/>
            <p:cNvSpPr/>
            <p:nvPr/>
          </p:nvSpPr>
          <p:spPr>
            <a:xfrm>
              <a:off x="3333600" y="1600200"/>
              <a:ext cx="2400120" cy="1142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se of technology t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ddress all students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081"/>
            <p:cNvSpPr/>
            <p:nvPr/>
          </p:nvSpPr>
          <p:spPr>
            <a:xfrm>
              <a:off x="533520" y="3314160"/>
              <a:ext cx="2400120" cy="1142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ll Lear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082"/>
            <p:cNvSpPr/>
            <p:nvPr/>
          </p:nvSpPr>
          <p:spPr>
            <a:xfrm>
              <a:off x="3333600" y="3314160"/>
              <a:ext cx="2400120" cy="1142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T Lear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083"/>
            <p:cNvSpPr/>
            <p:nvPr/>
          </p:nvSpPr>
          <p:spPr>
            <a:xfrm>
              <a:off x="6133680" y="3314160"/>
              <a:ext cx="2400120" cy="1142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pecial Educa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ainstreamed Lear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087"/>
            <p:cNvSpPr/>
            <p:nvPr/>
          </p:nvSpPr>
          <p:spPr>
            <a:xfrm>
              <a:off x="533520" y="5028480"/>
              <a:ext cx="2400120" cy="1142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chnology can b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sed for tutoring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dditional instruction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lf-paced learn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089"/>
            <p:cNvSpPr/>
            <p:nvPr/>
          </p:nvSpPr>
          <p:spPr>
            <a:xfrm>
              <a:off x="3333600" y="5028480"/>
              <a:ext cx="2400120" cy="1142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chnology can b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sed to extend learning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o challenge, or to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utor other studen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091"/>
            <p:cNvSpPr/>
            <p:nvPr/>
          </p:nvSpPr>
          <p:spPr>
            <a:xfrm>
              <a:off x="6133680" y="5028480"/>
              <a:ext cx="2400120" cy="1142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chnology can be u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vide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education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upport, tutoring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pecial services, and hel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fits of Technology use in the Classroo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learn the way they network outside of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reliable academic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all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a social network where students are more confident because of anonym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all users Brainify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6840" y="1727280"/>
            <a:ext cx="4270320" cy="4270320"/>
            <a:chOff x="2436840" y="1727280"/>
            <a:chExt cx="4270320" cy="4270320"/>
          </a:xfrm>
        </p:grpSpPr>
        <p:sp>
          <p:nvSpPr>
            <p:cNvPr id="64" name="_s5130"/>
            <p:cNvSpPr/>
            <p:nvPr/>
          </p:nvSpPr>
          <p:spPr>
            <a:xfrm flipH="1">
              <a:off x="3503520" y="3862440"/>
              <a:ext cx="53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5129"/>
            <p:cNvSpPr/>
            <p:nvPr/>
          </p:nvSpPr>
          <p:spPr>
            <a:xfrm>
              <a:off x="2436840" y="3328920"/>
              <a:ext cx="1066680" cy="10670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ci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okmark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Academ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5132"/>
            <p:cNvSpPr/>
            <p:nvPr/>
          </p:nvSpPr>
          <p:spPr>
            <a:xfrm>
              <a:off x="4572000" y="4395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5131"/>
            <p:cNvSpPr/>
            <p:nvPr/>
          </p:nvSpPr>
          <p:spPr>
            <a:xfrm>
              <a:off x="4038480" y="4930920"/>
              <a:ext cx="1067040" cy="106668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tor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k a 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5136"/>
            <p:cNvSpPr/>
            <p:nvPr/>
          </p:nvSpPr>
          <p:spPr>
            <a:xfrm>
              <a:off x="5105520" y="3862440"/>
              <a:ext cx="53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5135"/>
            <p:cNvSpPr/>
            <p:nvPr/>
          </p:nvSpPr>
          <p:spPr>
            <a:xfrm>
              <a:off x="5640480" y="3328920"/>
              <a:ext cx="1066680" cy="106704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rn b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ilding 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adem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5134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5133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er Friend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5128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ainify.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641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9480" y="83808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page is easy to use and you don’t have to be a member to sear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65530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rainify, n.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search, real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82840" y="1600200"/>
            <a:ext cx="437832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24080" y="6248520"/>
            <a:ext cx="56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rowell,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ify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, don’t have to be a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bookmarking of academic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ed to include only academic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onomy of sites orders by most specific to search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and Share academic websites in a socia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 question to the academic community and get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Needs Students and Par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match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parents with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a community of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ideas, strategies, and help for your student’s individual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 and communicate with other families who have the same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 to businesses, social activities and events, and services for people with dis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8:33:16Z</dcterms:created>
  <dc:creator>kisd</dc:creator>
  <dc:description/>
  <dc:language>en-US</dc:language>
  <cp:lastModifiedBy>kisd</cp:lastModifiedBy>
  <dcterms:modified xsi:type="dcterms:W3CDTF">2010-01-25T20:06:01Z</dcterms:modified>
  <cp:revision>8</cp:revision>
  <dc:subject/>
  <dc:title>Information Systems in the Classroom</dc:title>
</cp:coreProperties>
</file>